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7E33E-F606-436D-A6E6-51A5A4FD6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webmd.com/infertility-and-reproduction/guide/female-reproductive-system-overview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kvhs.nbed.nb.ca/gallant/biology/biology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getceusnow.com/human_sexuality/penis.htm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kvhs.nbed.nb.ca/gallant/biology/biolog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1A14-4EE3-42CD-B186-FB646EF6E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00B3-6E0F-4A45-963A-806949FC6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1C39-9155-405B-83FB-21DD7EDA0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13C6-8DD2-45E0-8793-7BE95B137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2F4B-A605-4F23-895C-CE8061C72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A760-9305-4561-A812-60B338CCE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8C02-3874-4A1D-B5D4-5988271FD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1ADD-7F46-4767-87C6-CDF341777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E17A-C603-40AA-BC24-2FD43B0C2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C8BA-84C9-4DEA-BC6D-FE157A15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95DC-FD67-49CB-AC96-8BE9867C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6863-5EBB-4337-BAEA-2854BD3A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C462D-9E69-48F5-87DD-F533337A33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oductive Horm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x horm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ro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ro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est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re produced in different proportions by both males and fem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male Reproductive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651040" y="1981080"/>
            <a:ext cx="3840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73280" y="609480"/>
            <a:ext cx="39974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654280" y="609480"/>
            <a:ext cx="383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le Reproductive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325600" y="1981080"/>
            <a:ext cx="4491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833480" y="609480"/>
            <a:ext cx="54770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2T16:29:18Z</dcterms:created>
  <dc:creator>rubina khan</dc:creator>
  <dc:description/>
  <dc:language>en-US</dc:language>
  <cp:lastModifiedBy>rubina khan</cp:lastModifiedBy>
  <dcterms:modified xsi:type="dcterms:W3CDTF">2013-01-09T04:39:09Z</dcterms:modified>
  <cp:revision>122</cp:revision>
  <dc:subject/>
  <dc:title>Hormones that Affect Blood Sugar  &amp; Reproductive Hormones</dc:title>
</cp:coreProperties>
</file>